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85B1-56EE-49A7-B2EC-B5F174C7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B7D-D21E-4C13-93B9-AB1A99B5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CAA1-C04E-4064-9D67-5DE38119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E7F-381A-4BAE-8E34-6EF4E682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27D9-32F6-43C6-AD8D-8C730A4E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31F-61D6-4AAC-BA5E-E78833C1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7599-B3AA-4511-9EBA-2F1B194E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EBA-894A-4DC5-A8C8-BBCF84D2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C28-F2F4-43E2-884D-E321733D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4A2-3D79-4687-A652-2565232E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028-3015-4CD5-A016-2A1FD281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548B-B87E-4FF4-A9D2-6F51D773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A9B3-9178-4BFA-B45F-81388804E253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MEMORIAS DE LA JORNADA DE CAPACIT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000000"/>
                </a:solidFill>
                <a:latin typeface="Calibri"/>
              </a:rPr>
              <a:t>El 24 de febrero de 2011, el Círculo de Estudios Pedagógicos y de la Formación Profesional – CEPEF, desarrolló con la Junta Nacional de SINDESENA un conversatorio sobre los conceptos de OFICIO Y OCUPACIÓN, y sobre la inquietud de si el Estatuto de la Formación Profesional resultado del Acuerdo No. 008 de 1997 constituía un Modelo Pedagógico para el SE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000000"/>
                </a:solidFill>
                <a:latin typeface="Calibri"/>
              </a:rPr>
              <a:t>Ponemos a su disposición los materiales que fueron insumos para la discusión y las diapositivas que dieron marco a la presentación que hizo la directora del CEPEF, Amparo Sandoval Lass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00"/>
                </a:solidFill>
                <a:uFillTx/>
                <a:latin typeface="Calibri"/>
              </a:rPr>
              <a:t>Haga click aquí para descargar las memor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03:30:08Z</dcterms:created>
  <dc:creator>RODRIGO</dc:creator>
  <dc:description/>
  <dc:language>en-US</dc:language>
  <cp:lastModifiedBy>RODRIGO</cp:lastModifiedBy>
  <dcterms:modified xsi:type="dcterms:W3CDTF">2011-03-02T03:41:34Z</dcterms:modified>
  <cp:revision>4</cp:revision>
  <dc:subject/>
  <dc:title>Diapositiva 1</dc:title>
</cp:coreProperties>
</file>